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8D0-B8E0-40DF-9FE8-41CE15EE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B73-08FD-4461-A88C-4E15EA94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187-654F-4687-91FB-C01DCB0C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71B-2F1E-48C2-A98A-D59F4875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855-CC16-4B35-85B0-482C9A55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2C8-E48D-4E9F-92A8-EE5664DD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8B1-4C08-438C-89AE-CA4F965B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D63-4AD4-4905-8D0C-7856D953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1DF-5491-4A50-81F3-A54DCA1E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632-69B8-4C4E-A29B-D7E1C29A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138-F987-4873-AB8B-504D043F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256-9828-4016-8965-B545FE93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7E0C-DBE8-4D3C-979A-DF123CA7B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écrit s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ableau avec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447920"/>
            <a:ext cx="6705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liquide d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styl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143000" y="1066680"/>
            <a:ext cx="72388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nition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auv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lè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14300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épar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a co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 pay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14400" y="114300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j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on jo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83808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arti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font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re de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s élè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nt autour de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762120" y="914400"/>
            <a:ext cx="76197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e trou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irecteur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regarde la cour en souri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uteur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219320" y="114300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447920" y="1143000"/>
            <a:ext cx="63244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295280" y="1371600"/>
            <a:ext cx="6553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nnée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ys du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agné l’indépend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066680" y="1143000"/>
            <a:ext cx="6782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eur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Page d’écritur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37160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auva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ê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295280" y="1371600"/>
            <a:ext cx="6477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ani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ert de plu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371600" y="914400"/>
            <a:ext cx="6477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e trou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é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14300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ba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’ext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mai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’int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14300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carpement litto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û à l’action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83808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onym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à l’affû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066680" y="1219320"/>
            <a:ext cx="72392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prome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len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143000" y="12952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 sembl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14400" y="83808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nettoy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rqu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14400" y="9144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mo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signif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donn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066680" y="1981080"/>
            <a:ext cx="72392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se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2209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838080" y="10666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1676520"/>
            <a:ext cx="7391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rif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5438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ir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de; il n’y a p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spa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143000" y="2362320"/>
            <a:ext cx="6858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li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685800" y="685800"/>
            <a:ext cx="80010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838080" y="91440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ran Id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écri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appelle..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143000" y="114300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bo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d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ag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’appelle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838080" y="990720"/>
            <a:ext cx="76964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85800" y="99072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on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914400"/>
            <a:ext cx="73911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a fin 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es, le Por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ymbole doit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914400" y="11430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action d ’Akrom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a reç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83808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tier d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38080" y="838080"/>
            <a:ext cx="76964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83808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ç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533520"/>
            <a:ext cx="76201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r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é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143000" y="106668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le monde a le dr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être éduq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un esprit de …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99072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aît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en tra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nseig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matière?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219320" y="914400"/>
            <a:ext cx="6858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nfant ve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sauvé par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143000" y="1066680"/>
            <a:ext cx="6629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nfant a cach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oiseau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762120" y="8380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écrou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nquill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91440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redev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ra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fi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762120" y="838080"/>
            <a:ext cx="769608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moqu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2286000"/>
            <a:ext cx="73915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spic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95280" y="2362320"/>
            <a:ext cx="67057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tre 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endroit secr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19320" y="1219320"/>
            <a:ext cx="69339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mber en pièce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détru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ynon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art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533520" y="1219320"/>
            <a:ext cx="8229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or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“symbole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début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295280"/>
            <a:ext cx="7619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sin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85800" y="914400"/>
            <a:ext cx="79246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an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or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« 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f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990720"/>
            <a:ext cx="7543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eint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retour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762120" y="8380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qui parl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kroman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mbié lui a refil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no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es Sénégal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our les blan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0948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i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eviennent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ge d’Ecri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838080" y="91440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pi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eviennent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ge d’Ecri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’Afrique francophon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iss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3520" y="914400"/>
            <a:ext cx="80010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3 pay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ancophon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Afrique 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urs capita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kar, Sénég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amoussokra, Côte d’Ivo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ngui,  Rép. Centrafricia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nis, Tunis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bat, Maro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71600" y="16002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s élè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s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3-05-05T14:12:01Z</dcterms:modified>
  <cp:revision>134</cp:revision>
  <dc:subject/>
  <dc:title>No Slide Title</dc:title>
</cp:coreProperties>
</file>